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BA2-EDFF-4708-BD32-5B3D1239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3EF-4CD2-4461-9637-1C201593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F2F-097E-45DE-B0D6-2F07FF73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9D3-CCFD-43AD-9A5A-BCBDCDC0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838-17A1-4D6C-9077-CA723847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F4F-8CFE-48B5-921E-9B812760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BB3-78AA-429C-9297-3C88A539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386-A5A6-47DF-A569-1BB77FC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E8B-84F6-47B6-B887-20E4FE31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E21-ED82-42C4-9881-77F35826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8D9-0AE5-4C29-BA39-1FFC90A2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186-E5DC-454B-8BB5-EC5B3E2F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7640" y="6381720"/>
            <a:ext cx="2890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3253-976A-4973-B399-8DE5B0EDC7E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308640"/>
            <a:ext cx="419040" cy="419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59640" y="6164280"/>
            <a:ext cx="576360" cy="5763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5326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d and Cub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701720"/>
            <a:ext cx="2374920" cy="237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557360"/>
            <a:ext cx="2447640" cy="24480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5440" y="2492280"/>
            <a:ext cx="2449800" cy="764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9F0-AC75-4AFE-AB07-05A38FB559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2: 2m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3 squared =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how can we wr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square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5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9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3.8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1600200"/>
            <a:ext cx="2232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9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4.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-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-3.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1600200"/>
            <a:ext cx="24494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8 x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3 x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99 x 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4.5 x 2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-9 x 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-3.8 x -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73720" y="252360"/>
            <a:ext cx="2671920" cy="1455840"/>
          </a:xfrm>
          <a:prstGeom prst="irregularSeal2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50D-E7C5-48F7-BD86-88B53AC513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CUBE a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6E2-CEEC-41A2-99C2-583D3F4DA1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n you tell me about a cub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7640" y="5589360"/>
            <a:ext cx="821988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th, height and length are equal (all edges are the s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6600" y="2179800"/>
            <a:ext cx="2018520" cy="1909080"/>
            <a:chOff x="606600" y="2179800"/>
            <a:chExt cx="2018520" cy="1909080"/>
          </a:xfrm>
        </p:grpSpPr>
        <p:sp>
          <p:nvSpPr>
            <p:cNvPr id="166" name=""/>
            <p:cNvSpPr/>
            <p:nvPr/>
          </p:nvSpPr>
          <p:spPr>
            <a:xfrm>
              <a:off x="606600" y="2838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98960" y="3629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038240" y="2179800"/>
              <a:ext cx="1439640" cy="1450800"/>
              <a:chOff x="1038240" y="2179800"/>
              <a:chExt cx="1439640" cy="1450800"/>
            </a:xfrm>
          </p:grpSpPr>
          <p:sp>
            <p:nvSpPr>
              <p:cNvPr id="169" name=""/>
              <p:cNvSpPr/>
              <p:nvPr/>
            </p:nvSpPr>
            <p:spPr>
              <a:xfrm>
                <a:off x="1038240" y="2190960"/>
                <a:ext cx="1439640" cy="143964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1038240" y="2551320"/>
                <a:ext cx="1079280" cy="1079280"/>
                <a:chOff x="1038240" y="2551320"/>
                <a:chExt cx="1079280" cy="1079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038240" y="255132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98240" y="255132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57160" y="255132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38240" y="291168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38240" y="327204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 flipV="1">
                <a:off x="2117520" y="2550960"/>
                <a:ext cx="360360" cy="36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117520" y="2911680"/>
                <a:ext cx="36036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398600" y="2179800"/>
                <a:ext cx="363240" cy="371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1757160" y="2190960"/>
                <a:ext cx="363600" cy="371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68200" y="2419560"/>
                <a:ext cx="1081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93840" y="229392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43160" y="2419560"/>
                <a:ext cx="0" cy="10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71680" y="2295720"/>
                <a:ext cx="0" cy="108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275200" y="334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59280" y="1844640"/>
            <a:ext cx="3240000" cy="3412440"/>
            <a:chOff x="3959280" y="1844640"/>
            <a:chExt cx="3240000" cy="3412440"/>
          </a:xfrm>
        </p:grpSpPr>
        <p:sp>
          <p:nvSpPr>
            <p:cNvPr id="186" name=""/>
            <p:cNvSpPr/>
            <p:nvPr/>
          </p:nvSpPr>
          <p:spPr>
            <a:xfrm>
              <a:off x="4319640" y="1844640"/>
              <a:ext cx="2879640" cy="2879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319640" y="2565360"/>
              <a:ext cx="2158560" cy="2158560"/>
              <a:chOff x="4319640" y="2565360"/>
              <a:chExt cx="2158560" cy="215856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5398920" y="3644640"/>
                <a:ext cx="1079280" cy="1079280"/>
                <a:chOff x="5398920" y="3644640"/>
                <a:chExt cx="1079280" cy="10792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398920" y="364464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58920" y="364464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117840" y="364464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98920" y="400500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98920" y="436536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319640" y="3644640"/>
                <a:ext cx="1079280" cy="1079280"/>
                <a:chOff x="4319640" y="3644640"/>
                <a:chExt cx="1079280" cy="1079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319640" y="364464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79640" y="364464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8560" y="364464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319640" y="400500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319640" y="436536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398920" y="2565360"/>
                <a:ext cx="1079280" cy="1079280"/>
                <a:chOff x="5398920" y="2565360"/>
                <a:chExt cx="1079280" cy="1079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398920" y="256536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58920" y="256536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117840" y="256536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398920" y="292572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398920" y="328608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319640" y="2565360"/>
                <a:ext cx="1079280" cy="1079280"/>
                <a:chOff x="4319640" y="2565360"/>
                <a:chExt cx="1079280" cy="1079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319640" y="256536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679640" y="256536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38560" y="256536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319640" y="292572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319640" y="328608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3959280" y="342900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29440" y="479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478560" y="220356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78560" y="256392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478560" y="292428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478560" y="364500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478560" y="328464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80000" y="1846080"/>
              <a:ext cx="71928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040360" y="1844640"/>
              <a:ext cx="71928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400720" y="1844640"/>
              <a:ext cx="71928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759640" y="1844640"/>
              <a:ext cx="71892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120000" y="1844640"/>
              <a:ext cx="71892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1400" y="2432160"/>
              <a:ext cx="216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84600" y="2298600"/>
              <a:ext cx="216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9320" y="2155680"/>
              <a:ext cx="21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49920" y="2033640"/>
              <a:ext cx="21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6120" y="1927080"/>
              <a:ext cx="216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12120" y="2432160"/>
              <a:ext cx="0" cy="21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45320" y="2298600"/>
              <a:ext cx="0" cy="215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89680" y="2155680"/>
              <a:ext cx="0" cy="215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8840" y="2033640"/>
              <a:ext cx="0" cy="21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16840" y="1927080"/>
              <a:ext cx="0" cy="215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47200" y="43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6BB-53C9-4145-AD03-3A1B8DD6F8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find the volume of a c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the height by the width by the 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4520" y="35002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4160" y="4581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68720" y="33750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x 3 x 3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14600" y="4157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195640" y="2986200"/>
            <a:ext cx="1458360" cy="1450800"/>
            <a:chOff x="2195640" y="2986200"/>
            <a:chExt cx="1458360" cy="1450800"/>
          </a:xfrm>
        </p:grpSpPr>
        <p:sp>
          <p:nvSpPr>
            <p:cNvPr id="242" name=""/>
            <p:cNvSpPr/>
            <p:nvPr/>
          </p:nvSpPr>
          <p:spPr>
            <a:xfrm>
              <a:off x="2195640" y="2997360"/>
              <a:ext cx="1439640" cy="1439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274920" y="3357360"/>
              <a:ext cx="36036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74920" y="3718080"/>
              <a:ext cx="360360" cy="35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556000" y="2986200"/>
              <a:ext cx="363240" cy="37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914560" y="2997000"/>
              <a:ext cx="363600" cy="37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25600" y="3225960"/>
              <a:ext cx="10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51240" y="310032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00560" y="3225960"/>
              <a:ext cx="0" cy="108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29080" y="3102120"/>
              <a:ext cx="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195640" y="3357720"/>
              <a:ext cx="1081080" cy="1079280"/>
              <a:chOff x="2195640" y="3357720"/>
              <a:chExt cx="1081080" cy="107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195640" y="3357720"/>
                <a:ext cx="360360" cy="358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56000" y="3357720"/>
                <a:ext cx="360360" cy="358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95640" y="371628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56000" y="371628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195640" y="407664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56000" y="407664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16360" y="3357720"/>
                <a:ext cx="360360" cy="358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16360" y="371628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16360" y="4078440"/>
                <a:ext cx="360360" cy="358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V="1" rot="16200000">
              <a:off x="3213000" y="4149000"/>
              <a:ext cx="26964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6200000">
              <a:off x="3331800" y="4005000"/>
              <a:ext cx="27288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16200000">
              <a:off x="3447360" y="3884400"/>
              <a:ext cx="27000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18400" y="2869920"/>
            <a:ext cx="1458360" cy="1450800"/>
            <a:chOff x="6818400" y="2869920"/>
            <a:chExt cx="1458360" cy="1450800"/>
          </a:xfrm>
        </p:grpSpPr>
        <p:sp>
          <p:nvSpPr>
            <p:cNvPr id="265" name=""/>
            <p:cNvSpPr/>
            <p:nvPr/>
          </p:nvSpPr>
          <p:spPr>
            <a:xfrm>
              <a:off x="6818400" y="2881080"/>
              <a:ext cx="1439640" cy="1439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897680" y="3241440"/>
              <a:ext cx="36036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97680" y="3601800"/>
              <a:ext cx="360360" cy="35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178760" y="2869920"/>
              <a:ext cx="363240" cy="37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537320" y="2880720"/>
              <a:ext cx="363600" cy="37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48360" y="3109680"/>
              <a:ext cx="10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4000" y="298440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23320" y="3109680"/>
              <a:ext cx="0" cy="108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1840" y="2985840"/>
              <a:ext cx="0" cy="108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8400" y="324144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8760" y="324144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18400" y="360036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78760" y="360036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18400" y="396072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8760" y="396072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39120" y="324144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39120" y="360036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39120" y="396216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 rot="16200000">
              <a:off x="7835760" y="4032720"/>
              <a:ext cx="26964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16200000">
              <a:off x="7954920" y="3888360"/>
              <a:ext cx="27252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6200000">
              <a:off x="8070480" y="3767760"/>
              <a:ext cx="26964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19840" y="3203640"/>
            <a:ext cx="109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A63-3E6F-4AA1-8D0C-DF6721E1C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ube a number mean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ultiply the number by itself and then by itself agai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cubed = 3 x 3 x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cubed = 5 x 5 x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cubed = 8 x 8 x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95D-4D6A-4A73-9CDB-5E7FD6311B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586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3 cubed = 3 x 3 x 3, what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ubed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ubed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ubed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cubed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3 – 2m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1600200"/>
            <a:ext cx="2529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x 2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x 4 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x 5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73720" y="252360"/>
            <a:ext cx="2671920" cy="1455840"/>
          </a:xfrm>
          <a:prstGeom prst="irregularSeal2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C94-BF1B-4233-A568-B7748F0AB5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bed’ can also be written like thi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ubed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ubed =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cubed =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0FD-EEAE-417B-B228-DEE587961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4: 2m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1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3 cubed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ow can we wri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1600200"/>
            <a:ext cx="2232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1600200"/>
            <a:ext cx="24494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 x 1 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 x 2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4 x 4 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5 x 5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73720" y="252360"/>
            <a:ext cx="2671920" cy="1455840"/>
          </a:xfrm>
          <a:prstGeom prst="irregularSeal2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8D1-5384-4A48-B935-F9D42A99A8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028-5BF1-49E1-96A4-9BA58C4406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5 things we have learned about square and cube numb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62B-D8CC-4DAE-BE03-CB59FFEC83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65C-AAF1-4C12-A6DB-7BE1F02129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ing a number means multiplying it by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bing a number means multiplying it by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quared can be written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qu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ubed can be written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8 x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F63-DD3D-4A82-A6E3-1E502CDBE6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SQUARE a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CUBE a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61A-489C-49F1-A533-7ECEC5CB4B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tell me about a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5589360"/>
            <a:ext cx="914400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and width are equal (both sides the 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867280" y="1484280"/>
            <a:ext cx="2879640" cy="2879280"/>
            <a:chOff x="5867280" y="1484280"/>
            <a:chExt cx="2879640" cy="2879280"/>
          </a:xfrm>
        </p:grpSpPr>
        <p:sp>
          <p:nvSpPr>
            <p:cNvPr id="51" name=""/>
            <p:cNvSpPr/>
            <p:nvPr/>
          </p:nvSpPr>
          <p:spPr>
            <a:xfrm>
              <a:off x="5867280" y="1484280"/>
              <a:ext cx="2879640" cy="2879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836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728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4800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0728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6620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2692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620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867280" y="1845360"/>
              <a:ext cx="2879280" cy="2157480"/>
              <a:chOff x="5867280" y="1845360"/>
              <a:chExt cx="2879280" cy="2157480"/>
            </a:xfrm>
          </p:grpSpPr>
          <p:sp>
            <p:nvSpPr>
              <p:cNvPr id="60" name=""/>
              <p:cNvSpPr/>
              <p:nvPr/>
            </p:nvSpPr>
            <p:spPr>
              <a:xfrm>
                <a:off x="5867280" y="400284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67280" y="364356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7280" y="328320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7280" y="292428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67280" y="256464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67280" y="220428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184536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1280" y="1773360"/>
            <a:ext cx="1079280" cy="1079280"/>
            <a:chOff x="611280" y="1773360"/>
            <a:chExt cx="1079280" cy="1079280"/>
          </a:xfrm>
        </p:grpSpPr>
        <p:sp>
          <p:nvSpPr>
            <p:cNvPr id="68" name=""/>
            <p:cNvSpPr/>
            <p:nvPr/>
          </p:nvSpPr>
          <p:spPr>
            <a:xfrm>
              <a:off x="611280" y="1773360"/>
              <a:ext cx="1079280" cy="1079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1280" y="1773360"/>
              <a:ext cx="0" cy="10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0200" y="1773360"/>
              <a:ext cx="0" cy="10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280" y="213372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1280" y="249408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00360" y="2565360"/>
            <a:ext cx="2158560" cy="2158560"/>
            <a:chOff x="2700360" y="2565360"/>
            <a:chExt cx="2158560" cy="2158560"/>
          </a:xfrm>
        </p:grpSpPr>
        <p:grpSp>
          <p:nvGrpSpPr>
            <p:cNvPr id="74" name=""/>
            <p:cNvGrpSpPr/>
            <p:nvPr/>
          </p:nvGrpSpPr>
          <p:grpSpPr>
            <a:xfrm>
              <a:off x="3779640" y="3644640"/>
              <a:ext cx="1079280" cy="1079280"/>
              <a:chOff x="3779640" y="3644640"/>
              <a:chExt cx="1079280" cy="1079280"/>
            </a:xfrm>
          </p:grpSpPr>
          <p:sp>
            <p:nvSpPr>
              <p:cNvPr id="75" name=""/>
              <p:cNvSpPr/>
              <p:nvPr/>
            </p:nvSpPr>
            <p:spPr>
              <a:xfrm>
                <a:off x="3779640" y="3644640"/>
                <a:ext cx="1079280" cy="10792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39640" y="364464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98560" y="364464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79640" y="400500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640" y="436536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700360" y="3644640"/>
              <a:ext cx="1079280" cy="1079280"/>
              <a:chOff x="2700360" y="3644640"/>
              <a:chExt cx="1079280" cy="1079280"/>
            </a:xfrm>
          </p:grpSpPr>
          <p:sp>
            <p:nvSpPr>
              <p:cNvPr id="81" name=""/>
              <p:cNvSpPr/>
              <p:nvPr/>
            </p:nvSpPr>
            <p:spPr>
              <a:xfrm>
                <a:off x="2700360" y="3644640"/>
                <a:ext cx="1079280" cy="10792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60360" y="364464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19280" y="364464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700360" y="400500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0360" y="436536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79640" y="2565360"/>
              <a:ext cx="1079280" cy="1079280"/>
              <a:chOff x="3779640" y="2565360"/>
              <a:chExt cx="1079280" cy="1079280"/>
            </a:xfrm>
          </p:grpSpPr>
          <p:sp>
            <p:nvSpPr>
              <p:cNvPr id="87" name=""/>
              <p:cNvSpPr/>
              <p:nvPr/>
            </p:nvSpPr>
            <p:spPr>
              <a:xfrm>
                <a:off x="3779640" y="2565360"/>
                <a:ext cx="1079280" cy="10792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9640" y="256536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98560" y="256536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79640" y="292572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79640" y="328608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700360" y="2565360"/>
              <a:ext cx="1079280" cy="1079280"/>
              <a:chOff x="2700360" y="2565360"/>
              <a:chExt cx="1079280" cy="1079280"/>
            </a:xfrm>
          </p:grpSpPr>
          <p:sp>
            <p:nvSpPr>
              <p:cNvPr id="93" name=""/>
              <p:cNvSpPr/>
              <p:nvPr/>
            </p:nvSpPr>
            <p:spPr>
              <a:xfrm>
                <a:off x="2700360" y="2565360"/>
                <a:ext cx="1079280" cy="10792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60360" y="256536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19280" y="256536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00360" y="292572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00360" y="328608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25272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5080" y="285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34290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1016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052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6160" y="43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774-C962-4B1B-853E-DC1532682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find the area of a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the height by the 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24000" y="3068640"/>
            <a:ext cx="1440000" cy="1440000"/>
            <a:chOff x="2124000" y="3068640"/>
            <a:chExt cx="1440000" cy="1440000"/>
          </a:xfrm>
        </p:grpSpPr>
        <p:sp>
          <p:nvSpPr>
            <p:cNvPr id="107" name=""/>
            <p:cNvSpPr/>
            <p:nvPr/>
          </p:nvSpPr>
          <p:spPr>
            <a:xfrm>
              <a:off x="2124000" y="306864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4360" y="306864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3280" y="306864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3640" y="306864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34275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34275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43280" y="34275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3640" y="34275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24000" y="37893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4360" y="37893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43280" y="37893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3640" y="37893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4000" y="414828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4360" y="414828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43280" y="414828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3640" y="414828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974520" y="35002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4160" y="4581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9080" y="3375000"/>
            <a:ext cx="17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x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84720" y="3068640"/>
            <a:ext cx="1440000" cy="1440000"/>
            <a:chOff x="6084720" y="3068640"/>
            <a:chExt cx="1440000" cy="1440000"/>
          </a:xfrm>
        </p:grpSpPr>
        <p:grpSp>
          <p:nvGrpSpPr>
            <p:cNvPr id="127" name=""/>
            <p:cNvGrpSpPr/>
            <p:nvPr/>
          </p:nvGrpSpPr>
          <p:grpSpPr>
            <a:xfrm>
              <a:off x="6084720" y="3068640"/>
              <a:ext cx="1440000" cy="1440000"/>
              <a:chOff x="6084720" y="3068640"/>
              <a:chExt cx="1440000" cy="1440000"/>
            </a:xfrm>
          </p:grpSpPr>
          <p:sp>
            <p:nvSpPr>
              <p:cNvPr id="128" name=""/>
              <p:cNvSpPr/>
              <p:nvPr/>
            </p:nvSpPr>
            <p:spPr>
              <a:xfrm>
                <a:off x="6084720" y="306864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5080" y="306864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04000" y="306864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4360" y="306864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84720" y="34275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45080" y="34275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04000" y="34275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64360" y="34275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84720" y="37893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45080" y="37893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04000" y="37893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4360" y="37893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84720" y="414828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45080" y="414828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04000" y="414828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64360" y="414828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084720" y="3068640"/>
              <a:ext cx="1440000" cy="1440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9FB-13AD-40C8-8D5B-0D76FF99D1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SQUARE a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E20-6649-4188-9FFA-9229F9F61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58B-CFD6-4EE1-92A9-1F2378F1E1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quare a number mean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ultiply the number by itself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squared = 3 x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squared = 5 x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squared = 8 x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31F-94A7-4427-806D-6E3F509D22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1 – 2m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3 squared = 3 x 3,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squared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5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9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3.8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1600200"/>
            <a:ext cx="2232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x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x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 x 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5 x 2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9 x 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3.8 x -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3720" y="252360"/>
            <a:ext cx="2671920" cy="1455840"/>
          </a:xfrm>
          <a:prstGeom prst="irregularSeal2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E48-5184-451D-9995-9EEE7F3648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quared’ can also be written like thi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squared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squared =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squared =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F82-0FF2-4973-B236-4FB226B1C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3:57:00Z</dcterms:created>
  <dc:creator>Bruno Reddy</dc:creator>
  <dc:description/>
  <dc:language>en-US</dc:language>
  <cp:lastModifiedBy>Bruno Reddy</cp:lastModifiedBy>
  <dcterms:modified xsi:type="dcterms:W3CDTF">2004-11-02T01:52:11Z</dcterms:modified>
  <cp:revision>6</cp:revision>
  <dc:subject/>
  <dc:title>Squared and Cubed</dc:title>
</cp:coreProperties>
</file>